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6A08-D971-466C-82D3-6B26719F8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BE25-D2D0-46CE-AF70-9918AE6F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9A8E-07D6-4D69-BB99-81F67D884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1684-47A6-45CE-A198-1201CD7B8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0D73-C512-41D5-8FF0-F5D36098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488A-1CFC-4797-A77B-95DB3246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8023-C08D-46C2-B21C-F71E1C75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64FD-01A7-4492-95C0-5EBD3750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F553-2AE3-488A-B041-4BD19510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F5BD-2639-4A06-8E79-CB80770A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745B-544E-4BA4-88A2-82907FA4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813A-35CE-4774-B194-C1385CE1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542F-DE06-4893-81FB-8D7A5271C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92760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duplicated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gregation consist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914400" y="1192320"/>
          <a:ext cx="7620120" cy="55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92320"/>
                    <a:ext cx="7620120" cy="55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8-01-31T17:52:31Z</dcterms:modified>
  <cp:revision>2</cp:revision>
  <dc:subject/>
  <dc:title>Dimension aggregation</dc:title>
</cp:coreProperties>
</file>